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996238" cy="111283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9600" y="443880"/>
            <a:ext cx="719568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600" y="2603520"/>
            <a:ext cx="719568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9600" y="5974200"/>
            <a:ext cx="719568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9600" y="443880"/>
            <a:ext cx="719568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9600" y="2603520"/>
            <a:ext cx="351144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87080" y="2603520"/>
            <a:ext cx="351144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9600" y="5974200"/>
            <a:ext cx="351144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087080" y="5974200"/>
            <a:ext cx="351144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600" y="443880"/>
            <a:ext cx="719568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600" y="2603520"/>
            <a:ext cx="23166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32480" y="2603520"/>
            <a:ext cx="23166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65360" y="2603520"/>
            <a:ext cx="23166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9600" y="5974200"/>
            <a:ext cx="23166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832480" y="5974200"/>
            <a:ext cx="23166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265360" y="5974200"/>
            <a:ext cx="23166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600" y="443880"/>
            <a:ext cx="719568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99600" y="2603520"/>
            <a:ext cx="7195680" cy="64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9600" y="443880"/>
            <a:ext cx="719568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99600" y="2603520"/>
            <a:ext cx="7195680" cy="64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9600" y="443880"/>
            <a:ext cx="719568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99600" y="2603520"/>
            <a:ext cx="3511440" cy="64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087080" y="2603520"/>
            <a:ext cx="3511440" cy="64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600" y="443880"/>
            <a:ext cx="719568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99600" y="443880"/>
            <a:ext cx="7195680" cy="86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600" y="443880"/>
            <a:ext cx="719568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600" y="2603520"/>
            <a:ext cx="351144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7080" y="2603520"/>
            <a:ext cx="3511440" cy="64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99600" y="5974200"/>
            <a:ext cx="351144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9600" y="443880"/>
            <a:ext cx="719568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9600" y="2603520"/>
            <a:ext cx="3511440" cy="64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087080" y="2603520"/>
            <a:ext cx="351144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087080" y="5974200"/>
            <a:ext cx="351144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9600" y="443880"/>
            <a:ext cx="719568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600" y="2603520"/>
            <a:ext cx="351144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87080" y="2603520"/>
            <a:ext cx="351144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600" y="5974200"/>
            <a:ext cx="719568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Прямоугольник 40"/>
          <p:cNvSpPr/>
          <p:nvPr/>
        </p:nvSpPr>
        <p:spPr>
          <a:xfrm>
            <a:off x="0" y="0"/>
            <a:ext cx="7994520" cy="111283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Rectangle 7"/>
          <p:cNvSpPr/>
          <p:nvPr/>
        </p:nvSpPr>
        <p:spPr>
          <a:xfrm>
            <a:off x="1755720" y="7881840"/>
            <a:ext cx="35424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" name="TextBox 36" descr=""/>
          <p:cNvPicPr/>
          <p:nvPr/>
        </p:nvPicPr>
        <p:blipFill>
          <a:blip r:embed="rId1"/>
          <a:stretch/>
        </p:blipFill>
        <p:spPr>
          <a:xfrm>
            <a:off x="-12600" y="1633680"/>
            <a:ext cx="7997760" cy="9507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7" descr="C:\Users\1\Desktop\gaz.png"/>
          <p:cNvPicPr/>
          <p:nvPr/>
        </p:nvPicPr>
        <p:blipFill>
          <a:blip r:embed="rId2"/>
          <a:stretch/>
        </p:blipFill>
        <p:spPr>
          <a:xfrm>
            <a:off x="5140440" y="230040"/>
            <a:ext cx="3344760" cy="1067040"/>
          </a:xfrm>
          <a:prstGeom prst="rect">
            <a:avLst/>
          </a:prstGeom>
          <a:ln w="0">
            <a:noFill/>
          </a:ln>
        </p:spPr>
      </p:pic>
      <p:sp>
        <p:nvSpPr>
          <p:cNvPr id="40" name="TextBox 1"/>
          <p:cNvSpPr/>
          <p:nvPr/>
        </p:nvSpPr>
        <p:spPr>
          <a:xfrm>
            <a:off x="-11160" y="6860520"/>
            <a:ext cx="79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Calibri"/>
              </a:rPr>
              <a:t>ХАРАКТЕРИС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" name="Рисунок 2" descr=""/>
          <p:cNvPicPr/>
          <p:nvPr/>
        </p:nvPicPr>
        <p:blipFill>
          <a:blip r:embed="rId3"/>
          <a:srcRect l="18197" t="0" r="16763" b="0"/>
          <a:stretch/>
        </p:blipFill>
        <p:spPr>
          <a:xfrm>
            <a:off x="-11160" y="2820960"/>
            <a:ext cx="8005680" cy="37339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"/>
          <p:cNvPicPr/>
          <p:nvPr/>
        </p:nvPicPr>
        <p:blipFill>
          <a:blip r:embed="rId4"/>
          <a:srcRect l="2728" t="0" r="2621" b="0"/>
          <a:stretch/>
        </p:blipFill>
        <p:spPr>
          <a:xfrm>
            <a:off x="-11160" y="7548480"/>
            <a:ext cx="8005680" cy="23590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2" descr=""/>
          <p:cNvPicPr/>
          <p:nvPr/>
        </p:nvPicPr>
        <p:blipFill>
          <a:blip r:embed="rId5"/>
          <a:stretch/>
        </p:blipFill>
        <p:spPr>
          <a:xfrm>
            <a:off x="88920" y="291960"/>
            <a:ext cx="489600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71280" y="2389320"/>
            <a:ext cx="4145040" cy="28112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189000" y="0"/>
            <a:ext cx="6660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mbri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59800" y="0"/>
            <a:ext cx="6192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mbri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-12600" y="0"/>
            <a:ext cx="8007120" cy="704880"/>
          </a:xfrm>
          <a:prstGeom prst="rect">
            <a:avLst/>
          </a:prstGeom>
          <a:solidFill>
            <a:srgbClr val="b9cde5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5454"/>
                </a:solidFill>
                <a:latin typeface="Calibri"/>
              </a:rPr>
              <a:t>ГАЗ-27527-773 Эвотек Соболь 7-мест (4х4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7240" y="744480"/>
          <a:ext cx="7467480" cy="4267080"/>
        </p:xfrm>
        <a:graphic>
          <a:graphicData uri="http://schemas.openxmlformats.org/drawingml/2006/table">
            <a:tbl>
              <a:tblPr/>
              <a:tblGrid>
                <a:gridCol w="3809880"/>
                <a:gridCol w="3657600"/>
              </a:tblGrid>
              <a:tr h="25092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дель Т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З- 27527-77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посадочных ме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+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игател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вигатель УМЗ А275, БЕНЗИНОВЫЙ, 106,8 л.с., 2690 куб. см. Евро-5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в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0560">
                <a:tc>
                  <a:txBody>
                    <a:bodyPr lIns="55080" rIns="55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marL="171360" indent="-17136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ключаемый передний привод 4x4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дключаемый полный привод (Part-time)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УР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ПП 5-ступенчатая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улевой механизм БЗАГУ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нель приборов "Оптима«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11"/>
          <p:cNvSpPr/>
          <p:nvPr/>
        </p:nvSpPr>
        <p:spPr>
          <a:xfrm>
            <a:off x="409680" y="7734240"/>
            <a:ext cx="711504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оимость базового ТС –1 940 000руб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Calibri"/>
              </a:rPr>
              <a:t>Срок поставки </a:t>
            </a:r>
            <a:r>
              <a:rPr b="1" lang="en-US" sz="1400" spc="-1" strike="noStrike">
                <a:solidFill>
                  <a:srgbClr val="404040"/>
                </a:solidFill>
                <a:latin typeface="Calibri"/>
              </a:rPr>
              <a:t>10 </a:t>
            </a:r>
            <a:r>
              <a:rPr b="1" lang="ru-RU" sz="1400" spc="-1" strike="noStrike">
                <a:solidFill>
                  <a:srgbClr val="404040"/>
                </a:solidFill>
                <a:latin typeface="Calibri"/>
              </a:rPr>
              <a:t>рабочих дн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410000" y="8810640"/>
            <a:ext cx="341172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1360" indent="-171360"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Calibri"/>
              </a:rPr>
              <a:t>Гарантия 2 года или 80 000к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0520" y="6700680"/>
            <a:ext cx="8007480" cy="609840"/>
          </a:xfrm>
          <a:prstGeom prst="rect">
            <a:avLst/>
          </a:prstGeom>
          <a:solidFill>
            <a:srgbClr val="b9cde5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888"/>
              </a:spcBef>
              <a:spcAft>
                <a:spcPts val="12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УСЛОВИЯ ПРИОБРЕТ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52360" y="3713040"/>
            <a:ext cx="27432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4145040" y="4915080"/>
            <a:ext cx="37684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1360" indent="-171360"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ina</dc:creator>
  <dc:description/>
  <cp:keywords>DADhNslQcrk BADhJtrv1Fc</cp:keywords>
  <dc:language>en-US</dc:language>
  <cp:lastModifiedBy>Алексей</cp:lastModifiedBy>
  <cp:lastPrinted>2023-11-02T07:20:46Z</cp:lastPrinted>
  <dcterms:modified xsi:type="dcterms:W3CDTF">2024-12-23T20:17:21Z</dcterms:modified>
  <cp:revision>83</cp:revision>
  <dc:subject/>
  <dc:title>Коммерческое предложение</dc:title>
</cp:coreProperties>
</file>